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53D-3773-4D44-BD68-960986BD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9B3-BD90-45F0-8E56-0B063CCA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E34-CAC0-4FEC-8A03-7FBA6D5B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EAF-1F7F-4144-A09C-50FB746F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E0CC-615D-403F-87A1-F5656517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DE6F-5092-4B86-8776-A0373078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7AF2-C8B4-4672-B2D3-0C86AC0F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71C9-F90D-4056-8025-D272B8BD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D739-0ECD-45D6-ACA1-F1BF3280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FF51-1786-47B0-B132-ED8CAD81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BBB6-E562-4FE1-A788-759A090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F19-8FE7-49A8-B8EC-5C69B21D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4C33-BCD5-461D-AC85-4A20A21D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3E20-F66F-4102-B862-98AFF2E1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2A5B-CE51-4AC6-B83F-BECD668A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1CB1-D950-4E9C-AF68-416122FD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EFF0-02F7-4870-9C5E-A22A42CE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D07-C69B-4693-B731-837AA51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E17-AE18-4D9F-B1D8-99BE82AA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2A2-C22C-4BE6-AB5C-48449597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A4F-08A4-4C9C-B5E0-70EEB483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494-6E8A-4556-B917-5710D03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5A3-9250-4FB8-A1E0-55BE95F2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16A-EF3C-40C8-954E-C3093396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D66B-7D82-40C5-BA50-D529444E5BF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CCCE-3E9A-48F1-A367-29FD95191DC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СПОЛЬЗОВАНИЕ РИСК-МЕНЕДЖМЕНТА В ОБРАЗОВАТЕЛЬНОЙ ДЕЯТЕЛЬНОСТИ ШКОЛЫ. СТАНДАРТ 900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2015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Рисунок 4" descr="http://sic.com.ua/wp-content/uploads/2015/03/Risk_n.gif"/>
          <p:cNvPicPr/>
          <p:nvPr/>
        </p:nvPicPr>
        <p:blipFill>
          <a:blip r:embed="rId1"/>
          <a:stretch/>
        </p:blipFill>
        <p:spPr>
          <a:xfrm>
            <a:off x="2340000" y="1989000"/>
            <a:ext cx="5111640" cy="431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http://sic.com.ua/wp-content/uploads/2015/03/Risk_n.gif"/>
          <p:cNvPicPr/>
          <p:nvPr/>
        </p:nvPicPr>
        <p:blipFill>
          <a:blip r:embed="rId2"/>
          <a:stretch/>
        </p:blipFill>
        <p:spPr>
          <a:xfrm>
            <a:off x="2340000" y="1989000"/>
            <a:ext cx="5111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ЗОЛОТЫХ ПРАВИЛ УПРАВЛЕНИЯ РИСКАМ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395280" y="3284640"/>
            <a:ext cx="8497440" cy="884880"/>
            <a:chOff x="395280" y="3284640"/>
            <a:chExt cx="8497440" cy="884880"/>
          </a:xfrm>
        </p:grpSpPr>
        <p:sp>
          <p:nvSpPr>
            <p:cNvPr id="147" name="AutoShape 4"/>
            <p:cNvSpPr/>
            <p:nvPr/>
          </p:nvSpPr>
          <p:spPr>
            <a:xfrm>
              <a:off x="395280" y="3298680"/>
              <a:ext cx="8497440" cy="82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d4f2"/>
                </a:gs>
                <a:gs pos="100000">
                  <a:srgbClr val="b2e5f7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ahoma"/>
                </a:rPr>
                <a:t>	</a:t>
              </a:r>
              <a:r>
                <a:rPr b="1" lang="ru-RU" sz="2000" spc="-1" strike="noStrike">
                  <a:solidFill>
                    <a:srgbClr val="3333cc"/>
                  </a:solidFill>
                  <a:latin typeface="Tahoma"/>
                </a:rPr>
                <a:t>	</a:t>
              </a:r>
              <a:r>
                <a:rPr b="1" lang="ru-RU" sz="2000" spc="-1" strike="noStrike">
                  <a:solidFill>
                    <a:srgbClr val="3333cc"/>
                  </a:solidFill>
                  <a:latin typeface="Tahoma"/>
                </a:rPr>
                <a:t>УР – ЭТО 10% - ПРОЦЕСС, 90% - КУЛЬТУР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474840" y="3904920"/>
              <a:ext cx="8292240" cy="22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e2f5"/>
                </a:gs>
                <a:gs pos="100000">
                  <a:srgbClr val="d5f0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AutoShape 6"/>
            <p:cNvSpPr/>
            <p:nvPr/>
          </p:nvSpPr>
          <p:spPr>
            <a:xfrm>
              <a:off x="474840" y="3317040"/>
              <a:ext cx="8292240" cy="17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f1fb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936440" y="3405240"/>
              <a:ext cx="644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1" name="Group 8"/>
            <p:cNvGrpSpPr/>
            <p:nvPr/>
          </p:nvGrpSpPr>
          <p:grpSpPr>
            <a:xfrm>
              <a:off x="1038240" y="3284640"/>
              <a:ext cx="821880" cy="825120"/>
              <a:chOff x="1038240" y="3284640"/>
              <a:chExt cx="821880" cy="825120"/>
            </a:xfrm>
          </p:grpSpPr>
          <p:sp>
            <p:nvSpPr>
              <p:cNvPr id="152" name="Oval 9"/>
              <p:cNvSpPr/>
              <p:nvPr/>
            </p:nvSpPr>
            <p:spPr>
              <a:xfrm>
                <a:off x="1038240" y="3457800"/>
                <a:ext cx="821880" cy="5011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Oval 10"/>
              <p:cNvSpPr/>
              <p:nvPr/>
            </p:nvSpPr>
            <p:spPr>
              <a:xfrm>
                <a:off x="1045440" y="3284640"/>
                <a:ext cx="797400" cy="82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11"/>
              <p:cNvSpPr/>
              <p:nvPr/>
            </p:nvSpPr>
            <p:spPr>
              <a:xfrm>
                <a:off x="1055160" y="3289320"/>
                <a:ext cx="779040" cy="804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Oval 12"/>
              <p:cNvSpPr/>
              <p:nvPr/>
            </p:nvSpPr>
            <p:spPr>
              <a:xfrm>
                <a:off x="1063800" y="3297240"/>
                <a:ext cx="740520" cy="75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Oval 13"/>
              <p:cNvSpPr/>
              <p:nvPr/>
            </p:nvSpPr>
            <p:spPr>
              <a:xfrm>
                <a:off x="1107000" y="3317400"/>
                <a:ext cx="658080" cy="61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4"/>
            <p:cNvSpPr/>
            <p:nvPr/>
          </p:nvSpPr>
          <p:spPr>
            <a:xfrm>
              <a:off x="1183320" y="3300840"/>
              <a:ext cx="590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Group 15"/>
          <p:cNvGrpSpPr/>
          <p:nvPr/>
        </p:nvGrpSpPr>
        <p:grpSpPr>
          <a:xfrm>
            <a:off x="395280" y="4365720"/>
            <a:ext cx="8497440" cy="934560"/>
            <a:chOff x="395280" y="4365720"/>
            <a:chExt cx="8497440" cy="934560"/>
          </a:xfrm>
        </p:grpSpPr>
        <p:sp>
          <p:nvSpPr>
            <p:cNvPr id="159" name="AutoShape 16"/>
            <p:cNvSpPr/>
            <p:nvPr/>
          </p:nvSpPr>
          <p:spPr>
            <a:xfrm>
              <a:off x="395280" y="4365720"/>
              <a:ext cx="8497440" cy="92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87e7"/>
                </a:gs>
                <a:gs pos="100000">
                  <a:srgbClr val="ded3f6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3333cc"/>
                  </a:solidFill>
                  <a:latin typeface="Tahoma"/>
                </a:rPr>
                <a:t>НЕЛЬЗЯ ИГНОРИРОВАТЬ РИСКИ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AutoShape 17"/>
            <p:cNvSpPr/>
            <p:nvPr/>
          </p:nvSpPr>
          <p:spPr>
            <a:xfrm>
              <a:off x="467640" y="5047560"/>
              <a:ext cx="8377200" cy="23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cff5"/>
                </a:gs>
                <a:gs pos="100000">
                  <a:srgbClr val="eae3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AutoShape 18"/>
            <p:cNvSpPr/>
            <p:nvPr/>
          </p:nvSpPr>
          <p:spPr>
            <a:xfrm>
              <a:off x="467640" y="4385160"/>
              <a:ext cx="8377200" cy="238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c9f5"/>
                </a:gs>
                <a:gs pos="100000">
                  <a:srgbClr val="b59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Text Box 19"/>
            <p:cNvSpPr/>
            <p:nvPr/>
          </p:nvSpPr>
          <p:spPr>
            <a:xfrm>
              <a:off x="1851480" y="4431600"/>
              <a:ext cx="6639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3" name="Group 20"/>
            <p:cNvGrpSpPr/>
            <p:nvPr/>
          </p:nvGrpSpPr>
          <p:grpSpPr>
            <a:xfrm>
              <a:off x="1068480" y="4372560"/>
              <a:ext cx="849960" cy="927720"/>
              <a:chOff x="1068480" y="4372560"/>
              <a:chExt cx="849960" cy="927720"/>
            </a:xfrm>
          </p:grpSpPr>
          <p:sp>
            <p:nvSpPr>
              <p:cNvPr id="164" name="Oval 21"/>
              <p:cNvSpPr/>
              <p:nvPr/>
            </p:nvSpPr>
            <p:spPr>
              <a:xfrm>
                <a:off x="1068480" y="4595760"/>
                <a:ext cx="849960" cy="500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Oval 22"/>
              <p:cNvSpPr/>
              <p:nvPr/>
            </p:nvSpPr>
            <p:spPr>
              <a:xfrm>
                <a:off x="1077120" y="4372560"/>
                <a:ext cx="821880" cy="927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Oval 23"/>
              <p:cNvSpPr/>
              <p:nvPr/>
            </p:nvSpPr>
            <p:spPr>
              <a:xfrm>
                <a:off x="1087200" y="4377960"/>
                <a:ext cx="802800" cy="904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Oval 24"/>
              <p:cNvSpPr/>
              <p:nvPr/>
            </p:nvSpPr>
            <p:spPr>
              <a:xfrm>
                <a:off x="1096200" y="4386600"/>
                <a:ext cx="763200" cy="8442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Oval 25"/>
              <p:cNvSpPr/>
              <p:nvPr/>
            </p:nvSpPr>
            <p:spPr>
              <a:xfrm>
                <a:off x="1140840" y="4409280"/>
                <a:ext cx="678240" cy="68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9" name="Text Box 26"/>
            <p:cNvSpPr/>
            <p:nvPr/>
          </p:nvSpPr>
          <p:spPr>
            <a:xfrm>
              <a:off x="1190520" y="4388040"/>
              <a:ext cx="607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" name="Group 27"/>
          <p:cNvGrpSpPr/>
          <p:nvPr/>
        </p:nvGrpSpPr>
        <p:grpSpPr>
          <a:xfrm>
            <a:off x="395280" y="2205000"/>
            <a:ext cx="8497440" cy="863280"/>
            <a:chOff x="395280" y="2205000"/>
            <a:chExt cx="8497440" cy="863280"/>
          </a:xfrm>
        </p:grpSpPr>
        <p:sp>
          <p:nvSpPr>
            <p:cNvPr id="171" name="AutoShape 28"/>
            <p:cNvSpPr/>
            <p:nvPr/>
          </p:nvSpPr>
          <p:spPr>
            <a:xfrm>
              <a:off x="395280" y="2205000"/>
              <a:ext cx="8497440" cy="85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8be67"/>
                </a:gs>
                <a:gs pos="100000">
                  <a:srgbClr val="bce7c8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AutoShape 29"/>
            <p:cNvSpPr/>
            <p:nvPr/>
          </p:nvSpPr>
          <p:spPr>
            <a:xfrm>
              <a:off x="547560" y="2834280"/>
              <a:ext cx="8297640" cy="22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e9aa"/>
                </a:gs>
                <a:gs pos="100000">
                  <a:srgbClr val="d6f6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AutoShape 30"/>
            <p:cNvSpPr/>
            <p:nvPr/>
          </p:nvSpPr>
          <p:spPr>
            <a:xfrm>
              <a:off x="474840" y="2223720"/>
              <a:ext cx="8370000" cy="25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dd1"/>
                </a:gs>
                <a:gs pos="100000">
                  <a:srgbClr val="4dc9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3333cc"/>
                  </a:solidFill>
                  <a:latin typeface="Tahoma"/>
                </a:rPr>
                <a:t>ВЫЯВЛЕНИЕ И СНИЖЕНИЕ РИСКОВ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3333cc"/>
                  </a:solidFill>
                  <a:latin typeface="Tahoma"/>
                </a:rPr>
                <a:t>	</a:t>
              </a:r>
              <a:r>
                <a:rPr b="1" lang="ru-RU" sz="1900" spc="-1" strike="noStrike">
                  <a:solidFill>
                    <a:srgbClr val="3333cc"/>
                  </a:solidFill>
                  <a:latin typeface="Tahoma"/>
                </a:rPr>
                <a:t>   </a:t>
              </a:r>
              <a:r>
                <a:rPr b="1" lang="ru-RU" sz="1900" spc="-1" strike="noStrike">
                  <a:solidFill>
                    <a:srgbClr val="3333cc"/>
                  </a:solidFill>
                  <a:latin typeface="Tahoma"/>
                </a:rPr>
                <a:t>ДЛЯ ДОСТИЖЕНИЯ СТРАТЕГИЧЕСКИХ ЦЕЛЕЙ ОУ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31"/>
            <p:cNvSpPr/>
            <p:nvPr/>
          </p:nvSpPr>
          <p:spPr>
            <a:xfrm>
              <a:off x="1837440" y="2241000"/>
              <a:ext cx="665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5" name="Group 32"/>
            <p:cNvGrpSpPr/>
            <p:nvPr/>
          </p:nvGrpSpPr>
          <p:grpSpPr>
            <a:xfrm>
              <a:off x="1075680" y="2211480"/>
              <a:ext cx="842760" cy="856800"/>
              <a:chOff x="1075680" y="2211480"/>
              <a:chExt cx="842760" cy="856800"/>
            </a:xfrm>
          </p:grpSpPr>
          <p:sp>
            <p:nvSpPr>
              <p:cNvPr id="176" name="Oval 33"/>
              <p:cNvSpPr/>
              <p:nvPr/>
            </p:nvSpPr>
            <p:spPr>
              <a:xfrm>
                <a:off x="1075680" y="2396520"/>
                <a:ext cx="842760" cy="501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Oval 34"/>
              <p:cNvSpPr/>
              <p:nvPr/>
            </p:nvSpPr>
            <p:spPr>
              <a:xfrm>
                <a:off x="1084320" y="2211480"/>
                <a:ext cx="815040" cy="856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Oval 35"/>
              <p:cNvSpPr/>
              <p:nvPr/>
            </p:nvSpPr>
            <p:spPr>
              <a:xfrm>
                <a:off x="1094400" y="2216520"/>
                <a:ext cx="795960" cy="835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Oval 36"/>
              <p:cNvSpPr/>
              <p:nvPr/>
            </p:nvSpPr>
            <p:spPr>
              <a:xfrm>
                <a:off x="1103400" y="2224440"/>
                <a:ext cx="756720" cy="779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Oval 37"/>
              <p:cNvSpPr/>
              <p:nvPr/>
            </p:nvSpPr>
            <p:spPr>
              <a:xfrm>
                <a:off x="1147320" y="2245680"/>
                <a:ext cx="672480" cy="63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1" name="Text Box 38"/>
            <p:cNvSpPr/>
            <p:nvPr/>
          </p:nvSpPr>
          <p:spPr>
            <a:xfrm>
              <a:off x="1195920" y="2224800"/>
              <a:ext cx="600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" name="Group 39"/>
          <p:cNvGrpSpPr/>
          <p:nvPr/>
        </p:nvGrpSpPr>
        <p:grpSpPr>
          <a:xfrm>
            <a:off x="395280" y="981000"/>
            <a:ext cx="8497080" cy="1008000"/>
            <a:chOff x="395280" y="981000"/>
            <a:chExt cx="8497080" cy="1008000"/>
          </a:xfrm>
        </p:grpSpPr>
        <p:grpSp>
          <p:nvGrpSpPr>
            <p:cNvPr id="183" name="Group 40"/>
            <p:cNvGrpSpPr/>
            <p:nvPr/>
          </p:nvGrpSpPr>
          <p:grpSpPr>
            <a:xfrm>
              <a:off x="395280" y="981000"/>
              <a:ext cx="8497080" cy="1008000"/>
              <a:chOff x="395280" y="981000"/>
              <a:chExt cx="8497080" cy="1008000"/>
            </a:xfrm>
          </p:grpSpPr>
          <p:sp>
            <p:nvSpPr>
              <p:cNvPr id="184" name="AutoShape 41"/>
              <p:cNvSpPr/>
              <p:nvPr/>
            </p:nvSpPr>
            <p:spPr>
              <a:xfrm>
                <a:off x="395280" y="981000"/>
                <a:ext cx="8497080" cy="1008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de78"/>
                  </a:gs>
                  <a:gs pos="100000">
                    <a:srgbClr val="faf2ca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AutoShape 42"/>
              <p:cNvSpPr/>
              <p:nvPr/>
            </p:nvSpPr>
            <p:spPr>
              <a:xfrm>
                <a:off x="467640" y="1784880"/>
                <a:ext cx="8376840" cy="20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6b4"/>
                  </a:gs>
                  <a:gs pos="100000">
                    <a:srgbClr val="fdfd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AutoShape 43"/>
              <p:cNvSpPr/>
              <p:nvPr/>
            </p:nvSpPr>
            <p:spPr>
              <a:xfrm>
                <a:off x="467640" y="992160"/>
                <a:ext cx="8376840" cy="24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fade"/>
                  </a:gs>
                  <a:gs pos="100000">
                    <a:srgbClr val="eded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Text Box 44"/>
              <p:cNvSpPr/>
              <p:nvPr/>
            </p:nvSpPr>
            <p:spPr>
              <a:xfrm>
                <a:off x="1851480" y="1046160"/>
                <a:ext cx="680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Arial"/>
                  </a:rPr>
                  <a:t>ОТВЕТСТВЕННОСТЬ КАЖДОГО СОТРУДНИКА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8" name="Group 45"/>
              <p:cNvGrpSpPr/>
              <p:nvPr/>
            </p:nvGrpSpPr>
            <p:grpSpPr>
              <a:xfrm>
                <a:off x="987480" y="1112760"/>
                <a:ext cx="849960" cy="794160"/>
                <a:chOff x="987480" y="1112760"/>
                <a:chExt cx="849960" cy="794160"/>
              </a:xfrm>
            </p:grpSpPr>
            <p:sp>
              <p:nvSpPr>
                <p:cNvPr id="189" name="Oval 46"/>
                <p:cNvSpPr/>
                <p:nvPr/>
              </p:nvSpPr>
              <p:spPr>
                <a:xfrm>
                  <a:off x="987480" y="1264680"/>
                  <a:ext cx="849960" cy="5022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Oval 47"/>
                <p:cNvSpPr/>
                <p:nvPr/>
              </p:nvSpPr>
              <p:spPr>
                <a:xfrm>
                  <a:off x="996120" y="1112760"/>
                  <a:ext cx="821880" cy="79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1" name="Oval 48"/>
                <p:cNvSpPr/>
                <p:nvPr/>
              </p:nvSpPr>
              <p:spPr>
                <a:xfrm>
                  <a:off x="1006200" y="1117440"/>
                  <a:ext cx="802800" cy="77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Oval 49"/>
                <p:cNvSpPr/>
                <p:nvPr/>
              </p:nvSpPr>
              <p:spPr>
                <a:xfrm>
                  <a:off x="1015200" y="1125000"/>
                  <a:ext cx="763200" cy="72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3" name="Oval 50"/>
                <p:cNvSpPr/>
                <p:nvPr/>
              </p:nvSpPr>
              <p:spPr>
                <a:xfrm>
                  <a:off x="1059840" y="1144440"/>
                  <a:ext cx="678240" cy="58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4" name="Text Box 51"/>
            <p:cNvSpPr/>
            <p:nvPr/>
          </p:nvSpPr>
          <p:spPr>
            <a:xfrm>
              <a:off x="1116000" y="1187640"/>
              <a:ext cx="607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" name="Group 15"/>
          <p:cNvGrpSpPr/>
          <p:nvPr/>
        </p:nvGrpSpPr>
        <p:grpSpPr>
          <a:xfrm>
            <a:off x="395280" y="5516640"/>
            <a:ext cx="8497440" cy="865080"/>
            <a:chOff x="395280" y="5516640"/>
            <a:chExt cx="8497440" cy="865080"/>
          </a:xfrm>
        </p:grpSpPr>
        <p:sp>
          <p:nvSpPr>
            <p:cNvPr id="196" name="AutoShape 16"/>
            <p:cNvSpPr/>
            <p:nvPr/>
          </p:nvSpPr>
          <p:spPr>
            <a:xfrm>
              <a:off x="395280" y="5516640"/>
              <a:ext cx="8497440" cy="85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87e7"/>
                </a:gs>
                <a:gs pos="100000">
                  <a:srgbClr val="ded3f6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3333cc"/>
                  </a:solidFill>
                  <a:latin typeface="Tahoma"/>
                </a:rPr>
                <a:t>     </a:t>
              </a:r>
              <a:r>
                <a:rPr b="1" lang="ru-RU" sz="1900" spc="-1" strike="noStrike">
                  <a:solidFill>
                    <a:srgbClr val="3333cc"/>
                  </a:solidFill>
                  <a:latin typeface="Tahoma"/>
                </a:rPr>
                <a:t>ГОТОВНОСТЬ К НЕОПРЕДЕЛЕННОСТИ 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AutoShape 17"/>
            <p:cNvSpPr/>
            <p:nvPr/>
          </p:nvSpPr>
          <p:spPr>
            <a:xfrm>
              <a:off x="467640" y="6147360"/>
              <a:ext cx="8377200" cy="21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cff5"/>
                </a:gs>
                <a:gs pos="100000">
                  <a:srgbClr val="eae3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AutoShape 18"/>
            <p:cNvSpPr/>
            <p:nvPr/>
          </p:nvSpPr>
          <p:spPr>
            <a:xfrm>
              <a:off x="467640" y="5534640"/>
              <a:ext cx="8377200" cy="22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c9f5"/>
                </a:gs>
                <a:gs pos="100000">
                  <a:srgbClr val="b59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19"/>
            <p:cNvSpPr/>
            <p:nvPr/>
          </p:nvSpPr>
          <p:spPr>
            <a:xfrm>
              <a:off x="1851480" y="5575320"/>
              <a:ext cx="663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0" name="Group 20"/>
            <p:cNvGrpSpPr/>
            <p:nvPr/>
          </p:nvGrpSpPr>
          <p:grpSpPr>
            <a:xfrm>
              <a:off x="1068480" y="5523120"/>
              <a:ext cx="849960" cy="858600"/>
              <a:chOff x="1068480" y="5523120"/>
              <a:chExt cx="849960" cy="858600"/>
            </a:xfrm>
          </p:grpSpPr>
          <p:sp>
            <p:nvSpPr>
              <p:cNvPr id="201" name="Oval 21"/>
              <p:cNvSpPr/>
              <p:nvPr/>
            </p:nvSpPr>
            <p:spPr>
              <a:xfrm>
                <a:off x="1068480" y="5709960"/>
                <a:ext cx="849960" cy="501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Oval 22"/>
              <p:cNvSpPr/>
              <p:nvPr/>
            </p:nvSpPr>
            <p:spPr>
              <a:xfrm>
                <a:off x="1077120" y="5523120"/>
                <a:ext cx="821880" cy="858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Oval 23"/>
              <p:cNvSpPr/>
              <p:nvPr/>
            </p:nvSpPr>
            <p:spPr>
              <a:xfrm>
                <a:off x="1087200" y="5528160"/>
                <a:ext cx="802800" cy="837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Oval 24"/>
              <p:cNvSpPr/>
              <p:nvPr/>
            </p:nvSpPr>
            <p:spPr>
              <a:xfrm>
                <a:off x="1096200" y="5536080"/>
                <a:ext cx="763200" cy="781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Oval 25"/>
              <p:cNvSpPr/>
              <p:nvPr/>
            </p:nvSpPr>
            <p:spPr>
              <a:xfrm>
                <a:off x="1140840" y="5557320"/>
                <a:ext cx="678240" cy="635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6" name="Text Box 26"/>
            <p:cNvSpPr/>
            <p:nvPr/>
          </p:nvSpPr>
          <p:spPr>
            <a:xfrm>
              <a:off x="1190520" y="5537520"/>
              <a:ext cx="607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odule4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3527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611280" y="638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50920" y="1916280"/>
            <a:ext cx="8642160" cy="4392360"/>
          </a:xfrm>
          <a:prstGeom prst="rect">
            <a:avLst/>
          </a:prstGeom>
          <a:solidFill>
            <a:srgbClr val="dce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-1260360" y="5084280"/>
            <a:ext cx="21564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108000" y="1916280"/>
            <a:ext cx="903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50920" y="1700280"/>
            <a:ext cx="0" cy="468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0" y="6308640"/>
            <a:ext cx="896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8893080" y="1844640"/>
            <a:ext cx="0" cy="475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8028000" y="638172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50920" y="260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рудности директор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06400" y="134136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Tahoma"/>
              </a:rPr>
              <a:t>Компетентность в области психологии управления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Tahoma"/>
              </a:rPr>
              <a:t>Привычка к командно-административному стилю управления и необходимость введения экономических стимулов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Tahoma"/>
              </a:rPr>
              <a:t>Готовность целей при неготовности коллектива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Tahoma"/>
              </a:rPr>
              <a:t>Соблюдение принципов психологической безопасности по отношению к кадрам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Tahoma"/>
              </a:rPr>
              <a:t>Как зарабатывать гос. учреждению? Какие</a:t>
            </a:r>
            <a:r>
              <a:rPr b="1" lang="ru-RU" sz="27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3333cc"/>
                </a:solidFill>
                <a:latin typeface="Tahoma"/>
              </a:rPr>
              <a:t>услуги обязательные и какие платные?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13" descr="pict-right"/>
          <p:cNvPicPr/>
          <p:nvPr/>
        </p:nvPicPr>
        <p:blipFill>
          <a:blip r:embed="rId2"/>
          <a:stretch/>
        </p:blipFill>
        <p:spPr>
          <a:xfrm>
            <a:off x="396720" y="2133720"/>
            <a:ext cx="358920" cy="21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pict-right"/>
          <p:cNvPicPr/>
          <p:nvPr/>
        </p:nvPicPr>
        <p:blipFill>
          <a:blip r:embed="rId3"/>
          <a:stretch/>
        </p:blipFill>
        <p:spPr>
          <a:xfrm>
            <a:off x="395280" y="2637000"/>
            <a:ext cx="358920" cy="21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pict-right"/>
          <p:cNvPicPr/>
          <p:nvPr/>
        </p:nvPicPr>
        <p:blipFill>
          <a:blip r:embed="rId4"/>
          <a:stretch/>
        </p:blipFill>
        <p:spPr>
          <a:xfrm>
            <a:off x="395280" y="3860640"/>
            <a:ext cx="358920" cy="21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pict-right"/>
          <p:cNvPicPr/>
          <p:nvPr/>
        </p:nvPicPr>
        <p:blipFill>
          <a:blip r:embed="rId5"/>
          <a:stretch/>
        </p:blipFill>
        <p:spPr>
          <a:xfrm>
            <a:off x="395280" y="4365720"/>
            <a:ext cx="358920" cy="21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pict-right"/>
          <p:cNvPicPr/>
          <p:nvPr/>
        </p:nvPicPr>
        <p:blipFill>
          <a:blip r:embed="rId6"/>
          <a:stretch/>
        </p:blipFill>
        <p:spPr>
          <a:xfrm>
            <a:off x="395280" y="5229360"/>
            <a:ext cx="358920" cy="21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left_1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108000" y="638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9" descr="right_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59640" y="638172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0" descr="up_1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4356000" y="6381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r0-02"/>
          <p:cNvPicPr/>
          <p:nvPr/>
        </p:nvPicPr>
        <p:blipFill>
          <a:blip r:embed="rId1"/>
          <a:stretch/>
        </p:blipFill>
        <p:spPr>
          <a:xfrm>
            <a:off x="4859280" y="1916280"/>
            <a:ext cx="4011840" cy="4392360"/>
          </a:xfrm>
          <a:prstGeom prst="rect">
            <a:avLst/>
          </a:prstGeom>
          <a:ln w="0">
            <a:noFill/>
          </a:ln>
        </p:spPr>
      </p:pic>
      <p:sp>
        <p:nvSpPr>
          <p:cNvPr id="227" name="Line 3"/>
          <p:cNvSpPr/>
          <p:nvPr/>
        </p:nvSpPr>
        <p:spPr>
          <a:xfrm flipV="1">
            <a:off x="-1260360" y="5084280"/>
            <a:ext cx="21564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638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2200" y="260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рудности учит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Oval 6"/>
          <p:cNvSpPr/>
          <p:nvPr/>
        </p:nvSpPr>
        <p:spPr>
          <a:xfrm>
            <a:off x="3348000" y="3719520"/>
            <a:ext cx="2303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7" descr="left_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38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ight_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9640" y="638172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up_1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4356000" y="6381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0"/>
          <p:cNvSpPr/>
          <p:nvPr/>
        </p:nvSpPr>
        <p:spPr>
          <a:xfrm>
            <a:off x="250920" y="1916280"/>
            <a:ext cx="8642160" cy="4392360"/>
          </a:xfrm>
          <a:prstGeom prst="rect">
            <a:avLst/>
          </a:prstGeom>
          <a:solidFill>
            <a:srgbClr val="ffff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108000" y="1916280"/>
            <a:ext cx="892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50920" y="1700280"/>
            <a:ext cx="0" cy="468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0" y="6308640"/>
            <a:ext cx="885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8893080" y="1844640"/>
            <a:ext cx="0" cy="460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93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абота «под прицелом» оценки качества результата. Объективность и субъективность оценки обученности и воспитанности уча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ысокая подверженность эмоциональному выгоранию при отсутствии внутренней готовности к профилактик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ерегруженность исполнительскими функциями при необходимости творческого подх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ысокая социальная ответственность  в ситуации зависимости от заказчи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сихологическая безопасность учителя, ситуативная незащищённость в  конфлик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16" descr="pict-right"/>
          <p:cNvPicPr/>
          <p:nvPr/>
        </p:nvPicPr>
        <p:blipFill>
          <a:blip r:embed="rId5"/>
          <a:stretch/>
        </p:blipFill>
        <p:spPr>
          <a:xfrm>
            <a:off x="611280" y="1197000"/>
            <a:ext cx="358560" cy="2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7" descr="pict-right"/>
          <p:cNvPicPr/>
          <p:nvPr/>
        </p:nvPicPr>
        <p:blipFill>
          <a:blip r:embed="rId6"/>
          <a:stretch/>
        </p:blipFill>
        <p:spPr>
          <a:xfrm>
            <a:off x="611280" y="2637000"/>
            <a:ext cx="358560" cy="21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8" descr="pict-right"/>
          <p:cNvPicPr/>
          <p:nvPr/>
        </p:nvPicPr>
        <p:blipFill>
          <a:blip r:embed="rId7"/>
          <a:stretch/>
        </p:blipFill>
        <p:spPr>
          <a:xfrm>
            <a:off x="611280" y="3645000"/>
            <a:ext cx="358560" cy="21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pict-right"/>
          <p:cNvPicPr/>
          <p:nvPr/>
        </p:nvPicPr>
        <p:blipFill>
          <a:blip r:embed="rId8"/>
          <a:stretch/>
        </p:blipFill>
        <p:spPr>
          <a:xfrm>
            <a:off x="611280" y="4437000"/>
            <a:ext cx="358560" cy="21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" descr="pict-right"/>
          <p:cNvPicPr/>
          <p:nvPr/>
        </p:nvPicPr>
        <p:blipFill>
          <a:blip r:embed="rId9"/>
          <a:stretch/>
        </p:blipFill>
        <p:spPr>
          <a:xfrm>
            <a:off x="684360" y="5157720"/>
            <a:ext cx="35856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r0-04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3923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611280" y="638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971640" y="3929040"/>
            <a:ext cx="8640720" cy="366840"/>
          </a:xfrm>
          <a:prstGeom prst="rect">
            <a:avLst/>
          </a:prstGeom>
          <a:solidFill>
            <a:srgbClr val="ffff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5"/>
          <p:cNvSpPr/>
          <p:nvPr/>
        </p:nvSpPr>
        <p:spPr>
          <a:xfrm flipV="1">
            <a:off x="-1260360" y="5084280"/>
            <a:ext cx="21564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108000" y="1916280"/>
            <a:ext cx="903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250920" y="1700280"/>
            <a:ext cx="0" cy="468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0" y="6308640"/>
            <a:ext cx="896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8893080" y="1844640"/>
            <a:ext cx="0" cy="475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8028000" y="638172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322200" y="260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рудности уче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79480" y="214308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ерегрузки</a:t>
            </a:r>
            <a:r>
              <a:rPr b="1" lang="ru-RU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левого полушария при недогруженности правого полуша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Усиление стресса при подготовке к ЕГЭ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ривыкание к внешней оценке приводит к отсутствию самоанализа и самоконтро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ереализованность права на ошиб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авязывание авторитетов приводит к отсутствию собственного выбора и самосто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13" descr="pict-right"/>
          <p:cNvPicPr/>
          <p:nvPr/>
        </p:nvPicPr>
        <p:blipFill>
          <a:blip r:embed="rId2"/>
          <a:stretch/>
        </p:blipFill>
        <p:spPr>
          <a:xfrm>
            <a:off x="468360" y="2276640"/>
            <a:ext cx="358560" cy="21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pict-right"/>
          <p:cNvPicPr/>
          <p:nvPr/>
        </p:nvPicPr>
        <p:blipFill>
          <a:blip r:embed="rId3"/>
          <a:stretch/>
        </p:blipFill>
        <p:spPr>
          <a:xfrm>
            <a:off x="468360" y="3141720"/>
            <a:ext cx="358560" cy="21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ict-right"/>
          <p:cNvPicPr/>
          <p:nvPr/>
        </p:nvPicPr>
        <p:blipFill>
          <a:blip r:embed="rId4"/>
          <a:stretch/>
        </p:blipFill>
        <p:spPr>
          <a:xfrm>
            <a:off x="468360" y="3645000"/>
            <a:ext cx="358560" cy="21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pict-right"/>
          <p:cNvPicPr/>
          <p:nvPr/>
        </p:nvPicPr>
        <p:blipFill>
          <a:blip r:embed="rId5"/>
          <a:stretch/>
        </p:blipFill>
        <p:spPr>
          <a:xfrm>
            <a:off x="468360" y="4508640"/>
            <a:ext cx="358560" cy="215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pict-right"/>
          <p:cNvPicPr/>
          <p:nvPr/>
        </p:nvPicPr>
        <p:blipFill>
          <a:blip r:embed="rId6"/>
          <a:stretch/>
        </p:blipFill>
        <p:spPr>
          <a:xfrm>
            <a:off x="468360" y="4941720"/>
            <a:ext cx="358560" cy="216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8" descr="left_1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108000" y="638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9" descr="right_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59640" y="638172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" descr="up_1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4356000" y="6381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r0-05"/>
          <p:cNvPicPr/>
          <p:nvPr/>
        </p:nvPicPr>
        <p:blipFill>
          <a:blip r:embed="rId1"/>
          <a:stretch/>
        </p:blipFill>
        <p:spPr>
          <a:xfrm>
            <a:off x="3059280" y="1700280"/>
            <a:ext cx="5832360" cy="45702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539640" y="638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1916280"/>
            <a:ext cx="8642160" cy="4392360"/>
          </a:xfrm>
          <a:prstGeom prst="rect">
            <a:avLst/>
          </a:prstGeom>
          <a:solidFill>
            <a:srgbClr val="ffff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5"/>
          <p:cNvSpPr/>
          <p:nvPr/>
        </p:nvSpPr>
        <p:spPr>
          <a:xfrm flipV="1">
            <a:off x="-1260360" y="5084280"/>
            <a:ext cx="21564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6"/>
          <p:cNvSpPr/>
          <p:nvPr/>
        </p:nvSpPr>
        <p:spPr>
          <a:xfrm>
            <a:off x="108000" y="1916280"/>
            <a:ext cx="903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250920" y="1700280"/>
            <a:ext cx="0" cy="468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8"/>
          <p:cNvSpPr/>
          <p:nvPr/>
        </p:nvSpPr>
        <p:spPr>
          <a:xfrm>
            <a:off x="0" y="6308640"/>
            <a:ext cx="896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9"/>
          <p:cNvSpPr/>
          <p:nvPr/>
        </p:nvSpPr>
        <p:spPr>
          <a:xfrm>
            <a:off x="8893080" y="1844640"/>
            <a:ext cx="0" cy="475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8028000" y="638172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250920" y="333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рудности родител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едостаток информирова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ривычка к бесплатному образованию, неготовность к платным услуг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ерекладывание ответственности за обучение и воспитание ребёнка на школ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одительская не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Отсутствие мотивации к саморазвити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13" descr="pict-right"/>
          <p:cNvPicPr/>
          <p:nvPr/>
        </p:nvPicPr>
        <p:blipFill>
          <a:blip r:embed="rId2"/>
          <a:stretch/>
        </p:blipFill>
        <p:spPr>
          <a:xfrm>
            <a:off x="611280" y="1989000"/>
            <a:ext cx="358560" cy="21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pict-right"/>
          <p:cNvPicPr/>
          <p:nvPr/>
        </p:nvPicPr>
        <p:blipFill>
          <a:blip r:embed="rId3"/>
          <a:stretch/>
        </p:blipFill>
        <p:spPr>
          <a:xfrm>
            <a:off x="684360" y="2565360"/>
            <a:ext cx="358560" cy="21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pict-right"/>
          <p:cNvPicPr/>
          <p:nvPr/>
        </p:nvPicPr>
        <p:blipFill>
          <a:blip r:embed="rId4"/>
          <a:stretch/>
        </p:blipFill>
        <p:spPr>
          <a:xfrm>
            <a:off x="684360" y="3500280"/>
            <a:ext cx="35856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6" descr="pict-right"/>
          <p:cNvPicPr/>
          <p:nvPr/>
        </p:nvPicPr>
        <p:blipFill>
          <a:blip r:embed="rId5"/>
          <a:stretch/>
        </p:blipFill>
        <p:spPr>
          <a:xfrm>
            <a:off x="612720" y="4724280"/>
            <a:ext cx="358920" cy="216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7" descr="left_1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108000" y="638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right_1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59640" y="638172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up_1">
            <a:hlinkClick r:id="" action="ppaction://hlinkshowjump?jump=firstslide"/>
          </p:cNvPr>
          <p:cNvPicPr/>
          <p:nvPr/>
        </p:nvPicPr>
        <p:blipFill>
          <a:blip r:embed="rId8"/>
          <a:stretch/>
        </p:blipFill>
        <p:spPr>
          <a:xfrm>
            <a:off x="4356000" y="638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pict-right"/>
          <p:cNvPicPr/>
          <p:nvPr/>
        </p:nvPicPr>
        <p:blipFill>
          <a:blip r:embed="rId9"/>
          <a:stretch/>
        </p:blipFill>
        <p:spPr>
          <a:xfrm>
            <a:off x="611280" y="5300640"/>
            <a:ext cx="35856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333360"/>
            <a:ext cx="856908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риск-менеджмент дает возможность организ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AutoShape 65"/>
          <p:cNvSpPr/>
          <p:nvPr/>
        </p:nvSpPr>
        <p:spPr>
          <a:xfrm>
            <a:off x="108000" y="981000"/>
            <a:ext cx="8856720" cy="36036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-повышать возможность достижения целе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66"/>
          <p:cNvSpPr/>
          <p:nvPr/>
        </p:nvSpPr>
        <p:spPr>
          <a:xfrm>
            <a:off x="1042920" y="1052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67"/>
          <p:cNvSpPr/>
          <p:nvPr/>
        </p:nvSpPr>
        <p:spPr>
          <a:xfrm>
            <a:off x="395280" y="981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utoShape 68"/>
          <p:cNvSpPr/>
          <p:nvPr/>
        </p:nvSpPr>
        <p:spPr>
          <a:xfrm>
            <a:off x="108000" y="1341360"/>
            <a:ext cx="8856720" cy="64764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осознавать необходимость и улучша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идентификации и воздействие на риски по всей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69"/>
          <p:cNvSpPr/>
          <p:nvPr/>
        </p:nvSpPr>
        <p:spPr>
          <a:xfrm>
            <a:off x="108000" y="1989000"/>
            <a:ext cx="8856720" cy="71928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отвечать соответствующим законодательны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и другим обязательным требованиям и международным норма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AutoShape 70"/>
          <p:cNvSpPr/>
          <p:nvPr/>
        </p:nvSpPr>
        <p:spPr>
          <a:xfrm>
            <a:off x="108000" y="2708280"/>
            <a:ext cx="8856720" cy="36036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улучшать и совершенствовать управление и отчётн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AutoShape 71"/>
          <p:cNvSpPr/>
          <p:nvPr/>
        </p:nvSpPr>
        <p:spPr>
          <a:xfrm>
            <a:off x="108000" y="3141720"/>
            <a:ext cx="8856720" cy="36036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укреплять доверие заинтересованных сторон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AutoShape 72"/>
          <p:cNvSpPr/>
          <p:nvPr/>
        </p:nvSpPr>
        <p:spPr>
          <a:xfrm>
            <a:off x="108000" y="3573360"/>
            <a:ext cx="8856720" cy="36036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создавать надежный базис для принятия решений и планир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AutoShape 73"/>
          <p:cNvSpPr/>
          <p:nvPr/>
        </p:nvSpPr>
        <p:spPr>
          <a:xfrm>
            <a:off x="108000" y="4005360"/>
            <a:ext cx="8856720" cy="64764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ффективно распределять и использова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есурсы для воздействия на риск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AutoShape 74"/>
          <p:cNvSpPr/>
          <p:nvPr/>
        </p:nvSpPr>
        <p:spPr>
          <a:xfrm>
            <a:off x="108000" y="4724280"/>
            <a:ext cx="8785080" cy="36036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повышать функциональную эффективность и результативн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AutoShape 75"/>
          <p:cNvSpPr/>
          <p:nvPr/>
        </p:nvSpPr>
        <p:spPr>
          <a:xfrm>
            <a:off x="108000" y="5157720"/>
            <a:ext cx="8785080" cy="71928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повышать уровень обеспечения безопасност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здоровья, а также защиты окружающей сред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AutoShape 76"/>
          <p:cNvSpPr/>
          <p:nvPr/>
        </p:nvSpPr>
        <p:spPr>
          <a:xfrm>
            <a:off x="108000" y="5950080"/>
            <a:ext cx="8785080" cy="36036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совершенствовать предотвращение потерь и менеджмент инцидент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77"/>
          <p:cNvSpPr/>
          <p:nvPr/>
        </p:nvSpPr>
        <p:spPr>
          <a:xfrm>
            <a:off x="108000" y="6459480"/>
            <a:ext cx="8964720" cy="360360"/>
          </a:xfrm>
          <a:prstGeom prst="horizontalScroll">
            <a:avLst>
              <a:gd name="adj" fmla="val 88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улучшать обучение в организации;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повышать устойчивость организ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ся жизнь – управление рисками, а не исключение рисков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олтер Ристон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иск – это возможность под влиянием каких-либо факторов наступления нежелательного события , связанного с опасностью полной или частичной потери материальных и нематериальных ресурсов орган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ISO 9001:20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сновные изменения по сравнению с предыдущей версией стандар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Измененные структура, текст, термины в соответствии с Приложением SL (Директивы ИС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Контекст деятельности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Учет потребностей заинтересованных стор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иск-ориентированное мыш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 Лидерство руковод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6. Интеграция требований системы менеджмента качества в бизнес-процессы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7. Организационные зн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8. Документированная информ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. Продукты и услуги внешнег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происхож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0. Пересмотренные принципы менеджмента каче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правление риск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Анализ риска –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цесс понимания природы риска и определения уровня рис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дентификация риска  -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наружение, распознавание и описание рис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Управление рисками –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еятельность по формированию и реализации комплекса мероприятий, направленный на всесторонний анализ процессов СМК организации с целью выявления рисковых факторов, разработку корректирующих и предупреждающих действий, необходимых для снижения последствий неблагоприятного результата и минимизации возможных потер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цесс менеджмента рисков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Входами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цесса являются оперативные цели школы, результаты внутренних и внешних аудитов, аналитические материалы о тенденциях развития внешней и внутренней среды, оперативные планы , результаты исследований, отчет со стороны руковод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Выходами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цесса являются реестр рисков, план управления рисками, отчет о рисках, предоставляющие информацию об операционных рисках в основных процесс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Владельцем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процесса, принимающим решение по снижению степени влияния рисков на функционирование и постоянное улучшение СМК школы является директор школ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еханизм работы с риск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явление рис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бор, анализ и хранение информации, связанной с риск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ланирование и проведение работы, направленной на устранение выявленного рис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едвидение возникновения подобных рисков в других ви­дах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Объектами риск-менеджмента являются следующие процесс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цесс оказания образовательных услу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цесс научно-методической и инновацио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цесс менеджмента персонал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цесс менеджмента ресурс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цесс закуп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цесс технического обслуживания, ремонта и утил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4" descr="5-7-638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Notched Right Arrow 36"/>
          <p:cNvSpPr/>
          <p:nvPr/>
        </p:nvSpPr>
        <p:spPr>
          <a:xfrm>
            <a:off x="380880" y="2438280"/>
            <a:ext cx="8305920" cy="1676520"/>
          </a:xfrm>
          <a:custGeom>
            <a:avLst/>
            <a:gdLst>
              <a:gd name="textAreaLeft" fmla="*/ 419040 w 8305920"/>
              <a:gd name="textAreaRight" fmla="*/ 7886880 w 8305920"/>
              <a:gd name="textAreaTop" fmla="*/ 419040 h 1676520"/>
              <a:gd name="textAreaBottom" fmla="*/ 12574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420" y="5400"/>
                </a:lnTo>
                <a:lnTo>
                  <a:pt x="19420" y="0"/>
                </a:lnTo>
                <a:lnTo>
                  <a:pt x="21600" y="10800"/>
                </a:lnTo>
                <a:lnTo>
                  <a:pt x="19420" y="21600"/>
                </a:lnTo>
                <a:lnTo>
                  <a:pt x="19420" y="16200"/>
                </a:lnTo>
                <a:lnTo>
                  <a:pt x="0" y="16200"/>
                </a:lnTo>
                <a:lnTo>
                  <a:pt x="10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1258920" y="2565360"/>
            <a:ext cx="1447920" cy="1447920"/>
            <a:chOff x="1258920" y="2565360"/>
            <a:chExt cx="1447920" cy="1447920"/>
          </a:xfrm>
        </p:grpSpPr>
        <p:sp>
          <p:nvSpPr>
            <p:cNvPr id="117" name="Oval 7"/>
            <p:cNvSpPr/>
            <p:nvPr/>
          </p:nvSpPr>
          <p:spPr>
            <a:xfrm>
              <a:off x="1258920" y="2565360"/>
              <a:ext cx="1447920" cy="14479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1433520" y="2641320"/>
              <a:ext cx="1067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gency FB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" name="Group 29"/>
          <p:cNvGrpSpPr/>
          <p:nvPr/>
        </p:nvGrpSpPr>
        <p:grpSpPr>
          <a:xfrm>
            <a:off x="2843280" y="2565360"/>
            <a:ext cx="1447560" cy="1447920"/>
            <a:chOff x="2843280" y="2565360"/>
            <a:chExt cx="1447560" cy="1447920"/>
          </a:xfrm>
        </p:grpSpPr>
        <p:sp>
          <p:nvSpPr>
            <p:cNvPr id="120" name="Oval 9"/>
            <p:cNvSpPr/>
            <p:nvPr/>
          </p:nvSpPr>
          <p:spPr>
            <a:xfrm>
              <a:off x="2843280" y="2565360"/>
              <a:ext cx="1447560" cy="14479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3017880" y="264132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gency FB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2" name="Group 31"/>
          <p:cNvGrpSpPr/>
          <p:nvPr/>
        </p:nvGrpSpPr>
        <p:grpSpPr>
          <a:xfrm>
            <a:off x="4500720" y="2565360"/>
            <a:ext cx="1447560" cy="1447920"/>
            <a:chOff x="4500720" y="2565360"/>
            <a:chExt cx="1447560" cy="1447920"/>
          </a:xfrm>
        </p:grpSpPr>
        <p:sp>
          <p:nvSpPr>
            <p:cNvPr id="123" name="Oval 11"/>
            <p:cNvSpPr/>
            <p:nvPr/>
          </p:nvSpPr>
          <p:spPr>
            <a:xfrm>
              <a:off x="4500720" y="2565360"/>
              <a:ext cx="1447560" cy="1447920"/>
            </a:xfrm>
            <a:prstGeom prst="ellips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Oval 12"/>
            <p:cNvSpPr/>
            <p:nvPr/>
          </p:nvSpPr>
          <p:spPr>
            <a:xfrm>
              <a:off x="4675320" y="264132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gency FB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" name="Group 32"/>
          <p:cNvGrpSpPr/>
          <p:nvPr/>
        </p:nvGrpSpPr>
        <p:grpSpPr>
          <a:xfrm>
            <a:off x="6156360" y="2565360"/>
            <a:ext cx="1447920" cy="1447920"/>
            <a:chOff x="6156360" y="2565360"/>
            <a:chExt cx="1447920" cy="1447920"/>
          </a:xfrm>
        </p:grpSpPr>
        <p:sp>
          <p:nvSpPr>
            <p:cNvPr id="126" name="Oval 13"/>
            <p:cNvSpPr/>
            <p:nvPr/>
          </p:nvSpPr>
          <p:spPr>
            <a:xfrm>
              <a:off x="6156360" y="2565360"/>
              <a:ext cx="1447920" cy="14479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Oval 14"/>
            <p:cNvSpPr/>
            <p:nvPr/>
          </p:nvSpPr>
          <p:spPr>
            <a:xfrm>
              <a:off x="6330960" y="2641320"/>
              <a:ext cx="1067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gency FB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" name="TextBox 26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СПОСОБЫ МИНИМИЗАЦИИ РИС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70"/>
          <p:cNvGrpSpPr/>
          <p:nvPr/>
        </p:nvGrpSpPr>
        <p:grpSpPr>
          <a:xfrm>
            <a:off x="1820880" y="1523520"/>
            <a:ext cx="76320" cy="986040"/>
            <a:chOff x="1820880" y="1523520"/>
            <a:chExt cx="76320" cy="986040"/>
          </a:xfrm>
        </p:grpSpPr>
        <p:sp>
          <p:nvSpPr>
            <p:cNvPr id="130" name="Straight Connector 49"/>
            <p:cNvSpPr/>
            <p:nvPr/>
          </p:nvSpPr>
          <p:spPr>
            <a:xfrm flipV="1">
              <a:off x="1863720" y="1523520"/>
              <a:ext cx="0" cy="91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Oval 50"/>
            <p:cNvSpPr/>
            <p:nvPr/>
          </p:nvSpPr>
          <p:spPr>
            <a:xfrm rot="16200000">
              <a:off x="1820880" y="243324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72"/>
          <p:cNvGrpSpPr/>
          <p:nvPr/>
        </p:nvGrpSpPr>
        <p:grpSpPr>
          <a:xfrm>
            <a:off x="5105520" y="1523520"/>
            <a:ext cx="75960" cy="986040"/>
            <a:chOff x="5105520" y="1523520"/>
            <a:chExt cx="75960" cy="986040"/>
          </a:xfrm>
        </p:grpSpPr>
        <p:sp>
          <p:nvSpPr>
            <p:cNvPr id="133" name="Straight Connector 55"/>
            <p:cNvSpPr/>
            <p:nvPr/>
          </p:nvSpPr>
          <p:spPr>
            <a:xfrm flipV="1">
              <a:off x="5148360" y="1523520"/>
              <a:ext cx="0" cy="91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Oval 56"/>
            <p:cNvSpPr/>
            <p:nvPr/>
          </p:nvSpPr>
          <p:spPr>
            <a:xfrm rot="16200000">
              <a:off x="5105520" y="24336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" name="TextBox 57"/>
          <p:cNvSpPr/>
          <p:nvPr/>
        </p:nvSpPr>
        <p:spPr>
          <a:xfrm>
            <a:off x="1812240" y="129528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gency FB"/>
              </a:rPr>
              <a:t>ИЗБЕЖАНИЕ РИС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Box 58"/>
          <p:cNvSpPr/>
          <p:nvPr/>
        </p:nvSpPr>
        <p:spPr>
          <a:xfrm>
            <a:off x="5078520" y="129528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gency FB"/>
              </a:rPr>
              <a:t>СНИЖЕНИЕ РИС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80"/>
          <p:cNvGrpSpPr/>
          <p:nvPr/>
        </p:nvGrpSpPr>
        <p:grpSpPr>
          <a:xfrm>
            <a:off x="3581280" y="4191120"/>
            <a:ext cx="76320" cy="990360"/>
            <a:chOff x="3581280" y="4191120"/>
            <a:chExt cx="76320" cy="990360"/>
          </a:xfrm>
        </p:grpSpPr>
        <p:sp>
          <p:nvSpPr>
            <p:cNvPr id="138" name="Straight Connector 60"/>
            <p:cNvSpPr/>
            <p:nvPr/>
          </p:nvSpPr>
          <p:spPr>
            <a:xfrm>
              <a:off x="3614760" y="426240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Oval 61"/>
            <p:cNvSpPr/>
            <p:nvPr/>
          </p:nvSpPr>
          <p:spPr>
            <a:xfrm rot="5400000">
              <a:off x="3581280" y="419076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TextBox 65"/>
          <p:cNvSpPr/>
          <p:nvPr/>
        </p:nvSpPr>
        <p:spPr>
          <a:xfrm>
            <a:off x="3532680" y="510552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gency FB"/>
              </a:rPr>
              <a:t>ПЕРЕНОС РИС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Box 66"/>
          <p:cNvSpPr/>
          <p:nvPr/>
        </p:nvSpPr>
        <p:spPr>
          <a:xfrm>
            <a:off x="6876000" y="510552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gency FB"/>
              </a:rPr>
              <a:t>ПРИНЯТИЕ РИС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Group 82"/>
          <p:cNvGrpSpPr/>
          <p:nvPr/>
        </p:nvGrpSpPr>
        <p:grpSpPr>
          <a:xfrm>
            <a:off x="6858000" y="4191120"/>
            <a:ext cx="76320" cy="990360"/>
            <a:chOff x="6858000" y="4191120"/>
            <a:chExt cx="76320" cy="990360"/>
          </a:xfrm>
        </p:grpSpPr>
        <p:sp>
          <p:nvSpPr>
            <p:cNvPr id="143" name="Straight Connector 83"/>
            <p:cNvSpPr/>
            <p:nvPr/>
          </p:nvSpPr>
          <p:spPr>
            <a:xfrm>
              <a:off x="6891480" y="426240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84"/>
            <p:cNvSpPr/>
            <p:nvPr/>
          </p:nvSpPr>
          <p:spPr>
            <a:xfrm rot="5400000">
              <a:off x="6858000" y="419076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3:53:47Z</dcterms:created>
  <dc:creator>rekelena</dc:creator>
  <dc:description/>
  <dc:language>en-US</dc:language>
  <cp:lastModifiedBy>а</cp:lastModifiedBy>
  <cp:lastPrinted>2017-04-26T02:16:19Z</cp:lastPrinted>
  <dcterms:modified xsi:type="dcterms:W3CDTF">2017-04-26T02:26:41Z</dcterms:modified>
  <cp:revision>99</cp:revision>
  <dc:subject/>
  <dc:title>Слайд 1</dc:title>
</cp:coreProperties>
</file>